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chimes.wav" ContentType="audio/x-wav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395-8CA9-473E-9875-9B7F8139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D80-22BA-486C-8E31-F37CF13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8CB-8829-49EA-A902-0ACAF168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CDB-AB1B-4FF9-A399-B12B1EAF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2337-3D1E-4641-A0E4-1D4FD904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212B-6908-4499-B258-B5EEC25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9DC-6100-433D-BC05-B9631A90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629-E503-4133-A7CA-E0DFCA8F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C533-89E6-415A-B0BE-DBEF1A3D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C97-69AD-4D42-AC4D-40E45ED4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C422-DDC1-4862-A4E4-4E40F6D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7FA-59AF-4064-A56E-FDBD8A1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14E-98FC-458F-92F2-468D0FC3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98A5-CED2-4D44-90C5-0FAE923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6386-79DF-4A08-BB9A-50A43DA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BFE9-5142-4FA1-BB89-2A162B33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E47C-E3CB-4DF4-B111-E12551C2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659-FCC7-462D-AB9A-BE4AC79F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1D0-0E0A-4C9B-AC92-D00B4EF8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DF6-2F75-4D52-88EC-1F4A9020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D05-477B-45E9-AD78-642AE3E9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21C-86FD-4A9F-A372-FF881CDA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25B-E813-4611-A8A1-0E6837C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8AC-CBCF-4696-92AD-B149961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284B-EF28-4378-A7FC-F8B924D8972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0FE9-1E64-470D-9EF1-6E7D52C8B6C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KRĄ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ąt wielokąta można obliczyć ze wzoru (180° - a), gdzie a - kąt środkowy oparty na łuku wyznaczonym przez bok danego wielokąta foremneg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10440" y="3933720"/>
            <a:ext cx="28335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zor068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771480" cy="409320"/>
          </a:xfrm>
          <a:prstGeom prst="rect">
            <a:avLst/>
          </a:prstGeom>
          <a:ln w="0">
            <a:noFill/>
          </a:ln>
        </p:spPr>
      </p:pic>
      <p:pic>
        <p:nvPicPr>
          <p:cNvPr id="250" name="wzor069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704880" cy="419400"/>
          </a:xfrm>
          <a:prstGeom prst="rect">
            <a:avLst/>
          </a:prstGeom>
          <a:ln w="0">
            <a:noFill/>
          </a:ln>
        </p:spPr>
      </p:pic>
      <p:pic>
        <p:nvPicPr>
          <p:cNvPr id="251" name="wzor070" descr=""/>
          <p:cNvPicPr/>
          <p:nvPr/>
        </p:nvPicPr>
        <p:blipFill>
          <a:blip r:embed="rId4"/>
          <a:stretch/>
        </p:blipFill>
        <p:spPr>
          <a:xfrm>
            <a:off x="2843280" y="4365720"/>
            <a:ext cx="723960" cy="419040"/>
          </a:xfrm>
          <a:prstGeom prst="rect">
            <a:avLst/>
          </a:prstGeom>
          <a:ln w="0">
            <a:noFill/>
          </a:ln>
        </p:spPr>
      </p:pic>
      <p:pic>
        <p:nvPicPr>
          <p:cNvPr id="252" name="wzor071" descr=""/>
          <p:cNvPicPr/>
          <p:nvPr/>
        </p:nvPicPr>
        <p:blipFill>
          <a:blip r:embed="rId5"/>
          <a:stretch/>
        </p:blipFill>
        <p:spPr>
          <a:xfrm>
            <a:off x="2843280" y="4941720"/>
            <a:ext cx="723960" cy="419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65400"/>
            <a:ext cx="237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755640" y="2852640"/>
          <a:ext cx="7273800" cy="2525760"/>
        </p:xfrm>
        <a:graphic>
          <a:graphicData uri="http://schemas.openxmlformats.org/drawingml/2006/table">
            <a:tbl>
              <a:tblPr/>
              <a:tblGrid>
                <a:gridCol w="1673280"/>
                <a:gridCol w="1890720"/>
                <a:gridCol w="1892160"/>
                <a:gridCol w="1817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Liczba bok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środkowy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Kąt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Suma kątów wielokąta foremnego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120° = 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3*60° = 18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90° = 9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4*90° = 36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72° = 108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5*108° = 54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180° - 60° = 1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45472"/>
                          </a:solidFill>
                          <a:latin typeface="Arial"/>
                          <a:ea typeface="Times New Roman"/>
                        </a:rPr>
                        <a:t>6*120° = 720°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ąty wielokąta foremneg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mat: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Okrąg wpisany i opisany </a:t>
            </a:r>
            <a:br>
              <a:rPr sz="4000"/>
            </a:b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        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na wielokącie foremnym.</a:t>
            </a:r>
            <a:r>
              <a:rPr b="1" lang="en-US" sz="4000" spc="-1" strike="noStrike">
                <a:solidFill>
                  <a:srgbClr val="de9fe1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843280" y="2421000"/>
            <a:ext cx="3581280" cy="2895120"/>
            <a:chOff x="2843280" y="2421000"/>
            <a:chExt cx="3581280" cy="2895120"/>
          </a:xfrm>
        </p:grpSpPr>
        <p:sp>
          <p:nvSpPr>
            <p:cNvPr id="261" name=""/>
            <p:cNvSpPr/>
            <p:nvPr/>
          </p:nvSpPr>
          <p:spPr>
            <a:xfrm>
              <a:off x="2843280" y="3335040"/>
              <a:ext cx="2057400" cy="19810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3280" y="3487680"/>
              <a:ext cx="2057400" cy="1675800"/>
            </a:xfrm>
            <a:prstGeom prst="hexagon">
              <a:avLst>
                <a:gd name="adj" fmla="val 30693"/>
                <a:gd name="vf" fmla="val 115470"/>
              </a:avLst>
            </a:prstGeom>
            <a:solidFill>
              <a:srgbClr val="ffccf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5560" y="3487680"/>
              <a:ext cx="1752480" cy="167580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90840" y="2725560"/>
              <a:ext cx="2133720" cy="2285640"/>
            </a:xfrm>
            <a:prstGeom prst="ellipse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5760" y="3106440"/>
              <a:ext cx="1523880" cy="1523880"/>
            </a:xfrm>
            <a:prstGeom prst="rect">
              <a:avLst/>
            </a:prstGeom>
            <a:solidFill>
              <a:srgbClr val="c7c7df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95760" y="3106440"/>
              <a:ext cx="1523880" cy="1523880"/>
            </a:xfrm>
            <a:prstGeom prst="ellipse">
              <a:avLst/>
            </a:prstGeom>
            <a:solidFill>
              <a:srgbClr val="c7c7df"/>
            </a:soli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52760" y="2421000"/>
              <a:ext cx="1752480" cy="1676160"/>
            </a:xfrm>
            <a:prstGeom prst="ellipse">
              <a:avLst/>
            </a:prstGeom>
            <a:noFill/>
            <a:ln w="38160">
              <a:solidFill>
                <a:srgbClr val="857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05040" y="2421000"/>
              <a:ext cx="1447920" cy="1295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9960" y="2877840"/>
              <a:ext cx="838080" cy="838080"/>
            </a:xfrm>
            <a:prstGeom prst="ellipse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33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d93d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6237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888ae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45472"/>
                </a:solidFill>
                <a:latin typeface="Comic Sans MS"/>
              </a:rPr>
              <a:t>Okrąg opisany na wielokąc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4956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Okrąg jest opisany na wielokącie , jeżeli wszystkie wierzchołki tego wielokąta leżą          na okręgu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76720" y="1828800"/>
            <a:ext cx="2590560" cy="2438280"/>
            <a:chOff x="3276720" y="1828800"/>
            <a:chExt cx="2590560" cy="2438280"/>
          </a:xfrm>
        </p:grpSpPr>
        <p:sp>
          <p:nvSpPr>
            <p:cNvPr id="275" name=""/>
            <p:cNvSpPr/>
            <p:nvPr/>
          </p:nvSpPr>
          <p:spPr>
            <a:xfrm>
              <a:off x="3276720" y="1828800"/>
              <a:ext cx="2590560" cy="2438280"/>
            </a:xfrm>
            <a:prstGeom prst="ellipse">
              <a:avLst/>
            </a:prstGeom>
            <a:noFill/>
            <a:ln w="38160">
              <a:solidFill>
                <a:srgbClr val="979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6720" y="2016000"/>
              <a:ext cx="2590560" cy="2063880"/>
            </a:xfrm>
            <a:prstGeom prst="hexagon">
              <a:avLst>
                <a:gd name="adj" fmla="val 31380"/>
                <a:gd name="vf" fmla="val 115470"/>
              </a:avLst>
            </a:prstGeom>
            <a:solidFill>
              <a:srgbClr val="ff99cc"/>
            </a:solidFill>
            <a:ln w="38160">
              <a:solidFill>
                <a:srgbClr val="888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cezaskielce.pl/img/produkty/4a4748c57cb48.jpeg"/>
          <p:cNvPicPr/>
          <p:nvPr/>
        </p:nvPicPr>
        <p:blipFill>
          <a:blip r:embed="rId2"/>
          <a:stretch/>
        </p:blipFill>
        <p:spPr>
          <a:xfrm>
            <a:off x="1042920" y="836640"/>
            <a:ext cx="7416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c7d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Okrąg wpisany w wieloką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203640" y="1989000"/>
            <a:ext cx="2736720" cy="2231640"/>
            <a:chOff x="3203640" y="1989000"/>
            <a:chExt cx="2736720" cy="2231640"/>
          </a:xfrm>
        </p:grpSpPr>
        <p:sp>
          <p:nvSpPr>
            <p:cNvPr id="283" name=""/>
            <p:cNvSpPr/>
            <p:nvPr/>
          </p:nvSpPr>
          <p:spPr>
            <a:xfrm>
              <a:off x="3203640" y="1989000"/>
              <a:ext cx="2736720" cy="2231640"/>
            </a:xfrm>
            <a:prstGeom prst="hexagon">
              <a:avLst>
                <a:gd name="adj" fmla="val 30658"/>
                <a:gd name="vf" fmla="val 115470"/>
              </a:avLst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36200" y="1989000"/>
              <a:ext cx="2270880" cy="2231640"/>
            </a:xfrm>
            <a:prstGeom prst="ellipse">
              <a:avLst/>
            </a:prstGeom>
            <a:solidFill>
              <a:srgbClr val="c3a9d7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44792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4437000"/>
            <a:ext cx="656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Okrąg jest wpisany w wielokąt , jeżeli jest styczny do wszystkich boków tego wielokąta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c3a9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>
            <a:off x="3203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219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1989000"/>
            <a:ext cx="720720" cy="115272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3068640"/>
            <a:ext cx="720720" cy="115236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1989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4221000"/>
            <a:ext cx="1368360" cy="0"/>
          </a:xfrm>
          <a:prstGeom prst="line">
            <a:avLst/>
          </a:prstGeom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5651640" y="4581360"/>
            <a:ext cx="2209680" cy="735120"/>
            <a:chOff x="5651640" y="4581360"/>
            <a:chExt cx="2209680" cy="73512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489720" y="4581360"/>
                  <a:ext cx="9140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51640" y="4733640"/>
              <a:ext cx="2209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3500280"/>
            <a:ext cx="2286000" cy="685800"/>
            <a:chOff x="5651640" y="3500280"/>
            <a:chExt cx="2286000" cy="685800"/>
          </a:xfrm>
        </p:grpSpPr>
        <p:sp>
          <p:nvSpPr>
            <p:cNvPr id="302" name=""/>
            <p:cNvSpPr/>
            <p:nvPr/>
          </p:nvSpPr>
          <p:spPr>
            <a:xfrm>
              <a:off x="5651640" y="35766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6291360" y="3500280"/>
                  <a:ext cx="2667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"/>
            <p:cNvSpPr/>
            <p:nvPr/>
          </p:nvSpPr>
          <p:spPr>
            <a:xfrm>
              <a:off x="6490080" y="3576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b0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362320" y="3124080"/>
            <a:ext cx="2133360" cy="204480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124080"/>
            <a:ext cx="2133360" cy="20512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2666880"/>
            <a:ext cx="3047760" cy="297180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4191120"/>
            <a:ext cx="0" cy="99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191120"/>
            <a:ext cx="1066680" cy="99036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676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115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295280" y="6094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                     w kwadra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480" y="3733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24360" y="4581360"/>
                <a:ext cx="703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219640" y="4723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R=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1260360" y="3860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364000" y="2708280"/>
            <a:ext cx="1371240" cy="1142640"/>
            <a:chOff x="5364000" y="2708280"/>
            <a:chExt cx="1371240" cy="1142640"/>
          </a:xfrm>
        </p:grpSpPr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986440" y="2708280"/>
                  <a:ext cx="748800" cy="114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>
              <a:off x="5364000" y="3025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64000" y="4653000"/>
            <a:ext cx="1455840" cy="961920"/>
            <a:chOff x="5364000" y="4653000"/>
            <a:chExt cx="1455840" cy="9619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049800" y="4653000"/>
                  <a:ext cx="77004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5364000" y="4957560"/>
              <a:ext cx="7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595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3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84360" y="54936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ługość promienia okręgu opisanego i wpisanego w trójkąt równobocz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924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3057480" cy="3029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877080" y="4581360"/>
                <a:ext cx="1030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804000" y="2708280"/>
                <a:ext cx="1039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rostokąt 3" descr=""/>
          <p:cNvPicPr/>
          <p:nvPr/>
        </p:nvPicPr>
        <p:blipFill>
          <a:blip r:embed="rId2"/>
          <a:stretch/>
        </p:blipFill>
        <p:spPr>
          <a:xfrm>
            <a:off x="66600" y="146160"/>
            <a:ext cx="9083880" cy="144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www.matematykam.pl/images/l17e09.jpg"/>
          <p:cNvPicPr/>
          <p:nvPr/>
        </p:nvPicPr>
        <p:blipFill>
          <a:blip r:embed="rId3"/>
          <a:stretch/>
        </p:blipFill>
        <p:spPr>
          <a:xfrm>
            <a:off x="1042920" y="1628640"/>
            <a:ext cx="7344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rostokąt 4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498240" cy="193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matematykam.pl/images/l17e10.jpg"/>
          <p:cNvPicPr/>
          <p:nvPr/>
        </p:nvPicPr>
        <p:blipFill>
          <a:blip r:embed="rId3"/>
          <a:stretch/>
        </p:blipFill>
        <p:spPr>
          <a:xfrm>
            <a:off x="1187280" y="1844640"/>
            <a:ext cx="65516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upload.wikimedia.org/wikipedia/commons/thumb/f/f1/Okr%C4%85g_01.svg/350px-Okr%C4%85g_01.svg.png"/>
          <p:cNvPicPr/>
          <p:nvPr/>
        </p:nvPicPr>
        <p:blipFill>
          <a:blip r:embed="rId2"/>
          <a:stretch/>
        </p:blipFill>
        <p:spPr>
          <a:xfrm>
            <a:off x="108000" y="433440"/>
            <a:ext cx="4122720" cy="327492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3"/>
          <p:cNvSpPr/>
          <p:nvPr/>
        </p:nvSpPr>
        <p:spPr>
          <a:xfrm flipV="1" rot="10800000">
            <a:off x="4932000" y="765000"/>
            <a:ext cx="331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Punkt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odk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, zaś każdy z odcinków o początku </a:t>
            </a:r>
            <a:r>
              <a:rPr b="1" i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O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i końcu w jednym z punktów okręgu nazywamy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promieniem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, również długość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r</a:t>
            </a:r>
            <a:r>
              <a:rPr b="1" lang="en-US" sz="2000" spc="-1" strike="noStrike">
                <a:solidFill>
                  <a:srgbClr val="c7c7df"/>
                </a:solidFill>
                <a:latin typeface="Century Gothic"/>
                <a:ea typeface="Arial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nazywana jest tym terminem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ole tekstowe 4"/>
          <p:cNvSpPr/>
          <p:nvPr/>
        </p:nvSpPr>
        <p:spPr>
          <a:xfrm flipV="1" rot="10800000">
            <a:off x="323640" y="4149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Cięciwą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nazywamy odcinek   łączący dwa dowolne punkty okręgu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ole tekstowe 5"/>
          <p:cNvSpPr/>
          <p:nvPr/>
        </p:nvSpPr>
        <p:spPr>
          <a:xfrm flipV="1" rot="10800000">
            <a:off x="4860720" y="398592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entury Gothic"/>
                <a:ea typeface="Arial"/>
              </a:rPr>
              <a:t>Średnica</a:t>
            </a:r>
            <a:r>
              <a:rPr b="1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 okręgu to cięciwa przechodząca przez środek okręgu. Średnica zawsze ma długość dwóch promieni</a:t>
            </a:r>
            <a:r>
              <a:rPr b="0" lang="en-US" sz="2000" spc="-1" strike="noStrike">
                <a:solidFill>
                  <a:srgbClr val="545472"/>
                </a:solidFill>
                <a:latin typeface="Century Gothic"/>
                <a:ea typeface="Arial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294880" y="2924280"/>
            <a:ext cx="1848960" cy="1117440"/>
            <a:chOff x="5294880" y="2924280"/>
            <a:chExt cx="1848960" cy="111744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00840" y="2924280"/>
                  <a:ext cx="114300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294880" y="3318120"/>
              <a:ext cx="7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1" lang="pl-PL" sz="2400" spc="-1" strike="noStrike">
                  <a:solidFill>
                    <a:srgbClr val="ff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>
                  <a:solidFill>
                    <a:srgbClr val="121218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56272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2f3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121218"/>
                </a:solidFill>
                <a:latin typeface="Times New Roman"/>
              </a:rPr>
              <a:t>= 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666880"/>
            <a:ext cx="2743200" cy="2819520"/>
          </a:xfrm>
          <a:prstGeom prst="ellipse">
            <a:avLst/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289548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895480"/>
            <a:ext cx="2286000" cy="2362320"/>
          </a:xfrm>
          <a:prstGeom prst="ellipse">
            <a:avLst/>
          </a:prstGeom>
          <a:noFill/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114800"/>
            <a:ext cx="0" cy="1143000"/>
          </a:xfrm>
          <a:prstGeom prst="line">
            <a:avLst/>
          </a:prstGeom>
          <a:ln w="38160">
            <a:solidFill>
              <a:srgbClr val="f72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11480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2fda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51055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8160" y="4495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666880" y="4114440"/>
            <a:ext cx="685800" cy="1143000"/>
          </a:xfrm>
          <a:prstGeom prst="line">
            <a:avLst/>
          </a:prstGeom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2000" y="44197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421c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382f3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5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43d6"/>
                </a:solidFill>
                <a:latin typeface="Times New Roman"/>
              </a:rPr>
              <a:t>Długość promienia okręgu opisanego        i wpisanego w sześciokąt foremny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5160" y="3657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1eb4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04920" y="1066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Na każdym wielokącie foremnym można opisać okrąg i w każdy wielokąt foremny można wpisać okrąg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Środek okręgu opisanego na wielokącie foremnym jest jednocześnie środkiem okręgu wpisanego w ten wieloką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67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8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066680"/>
            <a:ext cx="8839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Comic Sans MS"/>
              </a:rPr>
              <a:t>Zad.1.Jaką długość ma promień okręgu :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a)   opisanego na kwadracie o boku 6 cm,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Comic Sans MS"/>
              </a:rPr>
              <a:t>b)   wpisanego w kwadrat o boku 6 cm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24080" y="3124080"/>
            <a:ext cx="3048120" cy="2971800"/>
            <a:chOff x="3124080" y="3124080"/>
            <a:chExt cx="3048120" cy="2971800"/>
          </a:xfrm>
        </p:grpSpPr>
        <p:sp>
          <p:nvSpPr>
            <p:cNvPr id="371" name=""/>
            <p:cNvSpPr/>
            <p:nvPr/>
          </p:nvSpPr>
          <p:spPr>
            <a:xfrm>
              <a:off x="3581280" y="3581280"/>
              <a:ext cx="2133720" cy="2044800"/>
            </a:xfrm>
            <a:prstGeom prst="rect">
              <a:avLst/>
            </a:prstGeom>
            <a:noFill/>
            <a:ln w="38160">
              <a:solidFill>
                <a:srgbClr val="0501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3581280"/>
              <a:ext cx="2133720" cy="2051280"/>
            </a:xfrm>
            <a:prstGeom prst="ellipse">
              <a:avLst/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4080" y="3124080"/>
              <a:ext cx="3048120" cy="2971800"/>
            </a:xfrm>
            <a:prstGeom prst="ellipse">
              <a:avLst/>
            </a:prstGeom>
            <a:noFill/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4648320"/>
              <a:ext cx="0" cy="990360"/>
            </a:xfrm>
            <a:prstGeom prst="line">
              <a:avLst/>
            </a:prstGeom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8320" y="4648320"/>
              <a:ext cx="1066680" cy="990360"/>
            </a:xfrm>
            <a:prstGeom prst="line">
              <a:avLst/>
            </a:prstGeom>
            <a:ln w="38160">
              <a:solidFill>
                <a:srgbClr val="4382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3400" y="49528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93d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382f3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956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608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115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720" y="4191120"/>
              <a:ext cx="42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e1eb4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38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2.</a:t>
            </a: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Jaką długość ma promień okręgu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opisanego na trójkącie równobocznym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o boku 2     cm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wpisanego w trójkąt równoboczny o boku 2    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916360" y="3284640"/>
            <a:ext cx="2971800" cy="2971800"/>
            <a:chOff x="2916360" y="3284640"/>
            <a:chExt cx="2971800" cy="2971800"/>
          </a:xfrm>
        </p:grpSpPr>
        <p:grpSp>
          <p:nvGrpSpPr>
            <p:cNvPr id="388" name=""/>
            <p:cNvGrpSpPr/>
            <p:nvPr/>
          </p:nvGrpSpPr>
          <p:grpSpPr>
            <a:xfrm>
              <a:off x="2916360" y="3284640"/>
              <a:ext cx="2971800" cy="2971800"/>
              <a:chOff x="2916360" y="3284640"/>
              <a:chExt cx="2971800" cy="2971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6360" y="3284640"/>
                <a:ext cx="2971800" cy="2971800"/>
              </a:xfrm>
              <a:prstGeom prst="ellipse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44960" y="3284640"/>
                <a:ext cx="2514600" cy="2286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3678120" y="4046760"/>
              <a:ext cx="2057400" cy="2044440"/>
              <a:chOff x="3678120" y="4046760"/>
              <a:chExt cx="2057400" cy="2044440"/>
            </a:xfrm>
          </p:grpSpPr>
          <p:sp>
            <p:nvSpPr>
              <p:cNvPr id="392" name=""/>
              <p:cNvSpPr/>
              <p:nvPr/>
            </p:nvSpPr>
            <p:spPr>
              <a:xfrm>
                <a:off x="3678120" y="4046760"/>
                <a:ext cx="1447920" cy="1523880"/>
              </a:xfrm>
              <a:prstGeom prst="ellipse">
                <a:avLst/>
              </a:prstGeom>
              <a:noFill/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63920" y="4808880"/>
                <a:ext cx="0" cy="76176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63920" y="4808880"/>
                <a:ext cx="1295640" cy="761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59360" y="4961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93d7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45160" y="47325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7960" y="5570640"/>
                <a:ext cx="457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8" name=""/>
                  <p:cNvSpPr txBox="1"/>
                  <p:nvPr/>
                </p:nvSpPr>
                <p:spPr>
                  <a:xfrm>
                    <a:off x="4363920" y="55706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9" name=""/>
                  <p:cNvSpPr txBox="1"/>
                  <p:nvPr/>
                </p:nvSpPr>
                <p:spPr>
                  <a:xfrm>
                    <a:off x="5278320" y="4199040"/>
                    <a:ext cx="457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0" name=""/>
              <p:cNvSpPr/>
              <p:nvPr/>
            </p:nvSpPr>
            <p:spPr>
              <a:xfrm>
                <a:off x="4211640" y="5570640"/>
                <a:ext cx="48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49720" y="41990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35320" y="43516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545472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05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380360" y="2565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788000" y="206064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23880" y="762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762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9144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1066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38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Comic Sans MS"/>
              </a:rPr>
              <a:t>Zad.3.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Jaką długość ma promień okręgu 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a)   opisanego na sześciokącie foremnym o boku 8 c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b)   wpisanego w sześciokąt foremny o boku 8 cm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71800" y="2819520"/>
            <a:ext cx="2743200" cy="2928240"/>
            <a:chOff x="2971800" y="2819520"/>
            <a:chExt cx="2743200" cy="2928240"/>
          </a:xfrm>
        </p:grpSpPr>
        <p:grpSp>
          <p:nvGrpSpPr>
            <p:cNvPr id="417" name=""/>
            <p:cNvGrpSpPr/>
            <p:nvPr/>
          </p:nvGrpSpPr>
          <p:grpSpPr>
            <a:xfrm>
              <a:off x="2971800" y="2819520"/>
              <a:ext cx="2743200" cy="2928240"/>
              <a:chOff x="2971800" y="2819520"/>
              <a:chExt cx="2743200" cy="2928240"/>
            </a:xfrm>
          </p:grpSpPr>
          <p:sp>
            <p:nvSpPr>
              <p:cNvPr id="418" name=""/>
              <p:cNvSpPr/>
              <p:nvPr/>
            </p:nvSpPr>
            <p:spPr>
              <a:xfrm>
                <a:off x="2971800" y="2819520"/>
                <a:ext cx="2743200" cy="2819160"/>
              </a:xfrm>
              <a:prstGeom prst="ellipse">
                <a:avLst/>
              </a:prstGeom>
              <a:noFill/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91120" y="525780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d0d11"/>
                    </a:solidFill>
                    <a:latin typeface="Times New Roman"/>
                  </a:rPr>
                  <a:t>8</a:t>
                </a:r>
                <a:endParaRPr b="0" lang="en-US" sz="26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2971800" y="3047760"/>
                <a:ext cx="2743200" cy="2361960"/>
                <a:chOff x="2971800" y="3047760"/>
                <a:chExt cx="2743200" cy="2361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971800" y="3047760"/>
                  <a:ext cx="2743200" cy="2361960"/>
                </a:xfrm>
                <a:prstGeom prst="hexagon">
                  <a:avLst>
                    <a:gd name="adj" fmla="val 29035"/>
                    <a:gd name="vf" fmla="val 115470"/>
                  </a:avLst>
                </a:prstGeom>
                <a:noFill/>
                <a:ln w="38160">
                  <a:solidFill>
                    <a:srgbClr val="0b0b0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200400" y="3047760"/>
                  <a:ext cx="2286000" cy="2361960"/>
                </a:xfrm>
                <a:prstGeom prst="ellipse">
                  <a:avLst/>
                </a:prstGeom>
                <a:noFill/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43400" y="42667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f72f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434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4421c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67440" y="4723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72fda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48320" y="457164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58880" y="46476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d0d11"/>
                      </a:solidFill>
                      <a:latin typeface="Times New Roman"/>
                    </a:rPr>
                    <a:t>8</a:t>
                  </a:r>
                  <a:endParaRPr b="0" lang="en-US" sz="2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657600" y="4266720"/>
                  <a:ext cx="685800" cy="1142640"/>
                </a:xfrm>
                <a:prstGeom prst="line">
                  <a:avLst/>
                </a:prstGeom>
                <a:ln w="38160">
                  <a:solidFill>
                    <a:srgbClr val="3a1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582720" y="4571640"/>
                  <a:ext cx="42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4421c3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0" name=""/>
            <p:cNvSpPr/>
            <p:nvPr/>
          </p:nvSpPr>
          <p:spPr>
            <a:xfrm>
              <a:off x="4114800" y="3809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8888ae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84360" y="2708280"/>
            <a:ext cx="7488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cc00"/>
                  </a:solidFill>
                  <a:miter/>
                </a:ln>
                <a:solidFill>
                  <a:srgbClr val="3a1ca6"/>
                </a:solidFill>
                <a:latin typeface="Arial Black"/>
              </a:rPr>
              <a:t>Wielokąty foremne i ich pola</a:t>
            </a:r>
            <a:endParaRPr b="0" lang="en-US" sz="2400" spc="1" strike="noStrike">
              <a:ln w="9360">
                <a:solidFill>
                  <a:srgbClr val="cccc00"/>
                </a:solidFill>
                <a:miter/>
              </a:ln>
              <a:solidFill>
                <a:srgbClr val="3a1ca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4000" y="62064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28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8888ae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2492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przekątna 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124080" y="1523880"/>
            <a:ext cx="2876400" cy="2804760"/>
            <a:chOff x="3124080" y="1523880"/>
            <a:chExt cx="2876400" cy="2804760"/>
          </a:xfrm>
        </p:grpSpPr>
        <p:grpSp>
          <p:nvGrpSpPr>
            <p:cNvPr id="441" name=""/>
            <p:cNvGrpSpPr/>
            <p:nvPr/>
          </p:nvGrpSpPr>
          <p:grpSpPr>
            <a:xfrm>
              <a:off x="3124080" y="1523880"/>
              <a:ext cx="2876400" cy="2286000"/>
              <a:chOff x="3124080" y="1523880"/>
              <a:chExt cx="2876400" cy="228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124080" y="1523880"/>
                <a:ext cx="2362320" cy="228600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124080" y="1523880"/>
                <a:ext cx="2362320" cy="228600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2360" y="2514600"/>
                <a:ext cx="43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62160" y="22860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962160" y="3733920"/>
              <a:ext cx="838080" cy="594720"/>
              <a:chOff x="3962160" y="3733920"/>
              <a:chExt cx="838080" cy="594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962160" y="380988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16240" y="373392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0" y="34783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39640" y="4149720"/>
            <a:ext cx="3353040" cy="1066680"/>
            <a:chOff x="539640" y="4149720"/>
            <a:chExt cx="3353040" cy="1066680"/>
          </a:xfrm>
        </p:grpSpPr>
        <p:sp>
          <p:nvSpPr>
            <p:cNvPr id="451" name=""/>
            <p:cNvSpPr/>
            <p:nvPr/>
          </p:nvSpPr>
          <p:spPr>
            <a:xfrm>
              <a:off x="539640" y="4378320"/>
              <a:ext cx="3353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            </a:t>
              </a:r>
              <a:r>
                <a:rPr b="0" lang="en-US" sz="3300" spc="-1" strike="noStrike">
                  <a:solidFill>
                    <a:srgbClr val="9595ff"/>
                  </a:solidFill>
                  <a:latin typeface="Times New Roman"/>
                </a:rPr>
                <a:t>P</a:t>
              </a:r>
              <a:r>
                <a:rPr b="1" lang="en-US" sz="3300" spc="-1" strike="noStrike">
                  <a:solidFill>
                    <a:srgbClr val="020202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2597040" y="4149720"/>
                  <a:ext cx="831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3" name=""/>
          <p:cNvGrpSpPr/>
          <p:nvPr/>
        </p:nvGrpSpPr>
        <p:grpSpPr>
          <a:xfrm>
            <a:off x="5257800" y="4267080"/>
            <a:ext cx="2209680" cy="596520"/>
            <a:chOff x="5257800" y="4267080"/>
            <a:chExt cx="2209680" cy="596520"/>
          </a:xfrm>
        </p:grpSpPr>
        <p:sp>
          <p:nvSpPr>
            <p:cNvPr id="454" name=""/>
            <p:cNvSpPr/>
            <p:nvPr/>
          </p:nvSpPr>
          <p:spPr>
            <a:xfrm>
              <a:off x="5257800" y="4267080"/>
              <a:ext cx="22096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2d4799"/>
                  </a:solidFill>
                  <a:latin typeface="Times New Roman"/>
                </a:rPr>
                <a:t>P</a:t>
              </a:r>
              <a:r>
                <a:rPr b="0" lang="en-US" sz="33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0960" y="4267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-1066680" y="5181480"/>
            <a:ext cx="8153280" cy="1326240"/>
            <a:chOff x="-1066680" y="5181480"/>
            <a:chExt cx="8153280" cy="1326240"/>
          </a:xfrm>
        </p:grpSpPr>
        <p:sp>
          <p:nvSpPr>
            <p:cNvPr id="457" name=""/>
            <p:cNvSpPr/>
            <p:nvPr/>
          </p:nvSpPr>
          <p:spPr>
            <a:xfrm>
              <a:off x="-1066680" y="5410080"/>
              <a:ext cx="8001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1080" y="5257800"/>
              <a:ext cx="3581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9595ff"/>
                  </a:solidFill>
                  <a:latin typeface="Times New Roman"/>
                </a:rPr>
                <a:t>o przekątnej d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5181480"/>
              <a:ext cx="20574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pole kwadratu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2d4799"/>
                  </a:solidFill>
                  <a:latin typeface="Times New Roman"/>
                </a:rPr>
                <a:t>o boku a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61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2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6227640" y="213372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11640" y="378936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50872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012000" y="4149720"/>
                <a:ext cx="63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987640" y="1844640"/>
            <a:ext cx="2438280" cy="2364840"/>
            <a:chOff x="2987640" y="1844640"/>
            <a:chExt cx="2438280" cy="2364840"/>
          </a:xfrm>
        </p:grpSpPr>
        <p:sp>
          <p:nvSpPr>
            <p:cNvPr id="469" name=""/>
            <p:cNvSpPr/>
            <p:nvPr/>
          </p:nvSpPr>
          <p:spPr>
            <a:xfrm>
              <a:off x="2987640" y="1844640"/>
              <a:ext cx="2438280" cy="1905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06960" y="1844640"/>
              <a:ext cx="0" cy="1905120"/>
            </a:xfrm>
            <a:prstGeom prst="line">
              <a:avLst/>
            </a:prstGeom>
            <a:ln w="38160">
              <a:solidFill>
                <a:srgbClr val="2005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216240" y="2454120"/>
              <a:ext cx="2133360" cy="1755360"/>
              <a:chOff x="3216240" y="2454120"/>
              <a:chExt cx="2133360" cy="1755360"/>
            </a:xfrm>
          </p:grpSpPr>
          <p:sp>
            <p:nvSpPr>
              <p:cNvPr id="472" name=""/>
              <p:cNvSpPr/>
              <p:nvPr/>
            </p:nvSpPr>
            <p:spPr>
              <a:xfrm>
                <a:off x="3978000" y="37497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16440" y="2454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216240" y="2530440"/>
                <a:ext cx="1447560" cy="688320"/>
                <a:chOff x="3216240" y="2530440"/>
                <a:chExt cx="1447560" cy="688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206600" y="2759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05c1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216240" y="253044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660066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7" name=""/>
          <p:cNvSpPr/>
          <p:nvPr/>
        </p:nvSpPr>
        <p:spPr>
          <a:xfrm>
            <a:off x="380880" y="8380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66cc"/>
                </a:solidFill>
                <a:latin typeface="Comic Sans MS"/>
              </a:rPr>
              <a:t>TRÓJKĄT RÓWNOBOCZN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00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2578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57340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– 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długość boku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67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132000" y="4365720"/>
            <a:ext cx="1752480" cy="1218600"/>
            <a:chOff x="3132000" y="4365720"/>
            <a:chExt cx="1752480" cy="121860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881880" y="4365720"/>
                  <a:ext cx="100260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3132000" y="4688280"/>
              <a:ext cx="87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P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788000" y="4797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pole trójkąta równoboczneg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80880" y="228600"/>
          <a:ext cx="110520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105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48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de9fe1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78800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995640" y="3716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059280" y="242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619280" y="566100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0" y="10666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838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Comic Sans MS"/>
              </a:rPr>
              <a:t>SZEŚCI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08520" y="29718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–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ługość boku sześcioką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43280" y="4653000"/>
            <a:ext cx="2286000" cy="1219320"/>
            <a:chOff x="2843280" y="4653000"/>
            <a:chExt cx="2286000" cy="1219320"/>
          </a:xfrm>
        </p:grpSpPr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4125960" y="4653000"/>
                  <a:ext cx="100332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>
              <a:off x="2843280" y="495792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971800" y="1905120"/>
            <a:ext cx="2438280" cy="2517120"/>
            <a:chOff x="2971800" y="1905120"/>
            <a:chExt cx="2438280" cy="2517120"/>
          </a:xfrm>
        </p:grpSpPr>
        <p:sp>
          <p:nvSpPr>
            <p:cNvPr id="506" name=""/>
            <p:cNvSpPr/>
            <p:nvPr/>
          </p:nvSpPr>
          <p:spPr>
            <a:xfrm>
              <a:off x="3962520" y="3962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1905120"/>
              <a:ext cx="2438280" cy="2133720"/>
            </a:xfrm>
            <a:prstGeom prst="hexagon">
              <a:avLst>
                <a:gd name="adj" fmla="val 28568"/>
                <a:gd name="vf" fmla="val 115470"/>
              </a:avLst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1120" y="2972160"/>
              <a:ext cx="609480" cy="106668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581280" y="2972160"/>
              <a:ext cx="609840" cy="1066680"/>
            </a:xfrm>
            <a:prstGeom prst="line">
              <a:avLst/>
            </a:prstGeom>
            <a:ln cap="rnd" w="1260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1120" y="2972160"/>
              <a:ext cx="1218960" cy="0"/>
            </a:xfrm>
            <a:prstGeom prst="line">
              <a:avLst/>
            </a:prstGeom>
            <a:ln cap="rnd" w="324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190760" y="1905120"/>
              <a:ext cx="60948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1905120"/>
              <a:ext cx="609840" cy="106704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71800" y="2972160"/>
              <a:ext cx="1219320" cy="0"/>
            </a:xfrm>
            <a:prstGeom prst="line">
              <a:avLst/>
            </a:prstGeom>
            <a:ln cap="rnd" w="936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6960" y="3353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86400" y="48769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ole sześciokąta foremne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304920" y="228600"/>
          <a:ext cx="110484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1104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19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508720" y="292428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00360" y="3357720"/>
                <a:ext cx="45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219320"/>
            <a:ext cx="8915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W kwadrat jest wpisany okrąg o promieniu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6 cm. Oblicz pole tego kwadratu.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2971800"/>
            <a:ext cx="2504880" cy="2519280"/>
          </a:xfrm>
          <a:prstGeom prst="rect">
            <a:avLst/>
          </a:prstGeom>
          <a:noFill/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2971800"/>
            <a:ext cx="2504880" cy="25272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00560" y="4286160"/>
            <a:ext cx="0" cy="12207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4648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05360" y="5427720"/>
            <a:ext cx="7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28600" y="4002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371600" cy="8236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3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4038480" y="3809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Wieloką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2209680"/>
            <a:ext cx="1600200" cy="1295280"/>
            <a:chOff x="914400" y="2209680"/>
            <a:chExt cx="1600200" cy="1295280"/>
          </a:xfrm>
        </p:grpSpPr>
        <p:sp>
          <p:nvSpPr>
            <p:cNvPr id="143" name=""/>
            <p:cNvSpPr/>
            <p:nvPr/>
          </p:nvSpPr>
          <p:spPr>
            <a:xfrm>
              <a:off x="914400" y="2209680"/>
              <a:ext cx="1600200" cy="1295280"/>
            </a:xfrm>
            <a:prstGeom prst="hexagon">
              <a:avLst>
                <a:gd name="adj" fmla="val 30885"/>
                <a:gd name="vf" fmla="val 115470"/>
              </a:avLst>
            </a:pr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2590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57600" y="2133720"/>
            <a:ext cx="1295280" cy="1295280"/>
            <a:chOff x="3657600" y="2133720"/>
            <a:chExt cx="1295280" cy="1295280"/>
          </a:xfrm>
        </p:grpSpPr>
        <p:sp>
          <p:nvSpPr>
            <p:cNvPr id="146" name=""/>
            <p:cNvSpPr/>
            <p:nvPr/>
          </p:nvSpPr>
          <p:spPr>
            <a:xfrm>
              <a:off x="3657600" y="2133720"/>
              <a:ext cx="1295280" cy="1295280"/>
            </a:xfrm>
            <a:prstGeom prst="rtTriangle">
              <a:avLst/>
            </a:prstGeom>
            <a:solidFill>
              <a:srgbClr val="ff99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81480" y="1981080"/>
            <a:ext cx="1447560" cy="990720"/>
            <a:chOff x="5181480" y="1981080"/>
            <a:chExt cx="1447560" cy="990720"/>
          </a:xfrm>
        </p:grpSpPr>
        <p:sp>
          <p:nvSpPr>
            <p:cNvPr id="149" name=""/>
            <p:cNvSpPr/>
            <p:nvPr/>
          </p:nvSpPr>
          <p:spPr>
            <a:xfrm>
              <a:off x="5181480" y="1981080"/>
              <a:ext cx="1447560" cy="990720"/>
            </a:xfrm>
            <a:prstGeom prst="parallelogram">
              <a:avLst>
                <a:gd name="adj" fmla="val 36528"/>
              </a:avLst>
            </a:prstGeom>
            <a:solidFill>
              <a:srgbClr val="cc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4640" y="2286000"/>
              <a:ext cx="457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10280" y="1752480"/>
            <a:ext cx="1600200" cy="1371600"/>
            <a:chOff x="7010280" y="1752480"/>
            <a:chExt cx="1600200" cy="1371600"/>
          </a:xfrm>
        </p:grpSpPr>
        <p:sp>
          <p:nvSpPr>
            <p:cNvPr id="152" name=""/>
            <p:cNvSpPr/>
            <p:nvPr/>
          </p:nvSpPr>
          <p:spPr>
            <a:xfrm>
              <a:off x="7010280" y="1752480"/>
              <a:ext cx="1600200" cy="13716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0120" y="2361960"/>
              <a:ext cx="3808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57200" y="4495680"/>
            <a:ext cx="1676520" cy="914400"/>
            <a:chOff x="457200" y="4495680"/>
            <a:chExt cx="1676520" cy="914400"/>
          </a:xfrm>
        </p:grpSpPr>
        <p:sp>
          <p:nvSpPr>
            <p:cNvPr id="155" name=""/>
            <p:cNvSpPr/>
            <p:nvPr/>
          </p:nvSpPr>
          <p:spPr>
            <a:xfrm>
              <a:off x="457200" y="4495680"/>
              <a:ext cx="1676520" cy="914400"/>
            </a:xfrm>
            <a:custGeom>
              <a:avLst/>
              <a:gdLst>
                <a:gd name="textAreaLeft" fmla="*/ 368640 w 1676520"/>
                <a:gd name="textAreaRight" fmla="*/ 1307880 w 167652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724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14600" y="3657600"/>
            <a:ext cx="1447920" cy="1523880"/>
            <a:chOff x="2514600" y="3657600"/>
            <a:chExt cx="1447920" cy="1523880"/>
          </a:xfrm>
        </p:grpSpPr>
        <p:sp>
          <p:nvSpPr>
            <p:cNvPr id="158" name=""/>
            <p:cNvSpPr/>
            <p:nvPr/>
          </p:nvSpPr>
          <p:spPr>
            <a:xfrm>
              <a:off x="2514600" y="3657600"/>
              <a:ext cx="1447920" cy="1523880"/>
            </a:xfrm>
            <a:prstGeom prst="octagon">
              <a:avLst>
                <a:gd name="adj" fmla="val 29287"/>
              </a:avLst>
            </a:prstGeom>
            <a:solidFill>
              <a:srgbClr val="ccff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190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43400" y="4343400"/>
            <a:ext cx="1143000" cy="1599840"/>
            <a:chOff x="4343400" y="4343400"/>
            <a:chExt cx="1143000" cy="1599840"/>
          </a:xfrm>
        </p:grpSpPr>
        <p:sp>
          <p:nvSpPr>
            <p:cNvPr id="161" name=""/>
            <p:cNvSpPr/>
            <p:nvPr/>
          </p:nvSpPr>
          <p:spPr>
            <a:xfrm>
              <a:off x="4343400" y="4343400"/>
              <a:ext cx="1143000" cy="1599840"/>
            </a:xfrm>
            <a:prstGeom prst="octagon">
              <a:avLst>
                <a:gd name="adj" fmla="val 29287"/>
              </a:avLst>
            </a:prstGeom>
            <a:solidFill>
              <a:srgbClr val="cce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1800" y="49032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67280" y="3733920"/>
            <a:ext cx="1219320" cy="1218960"/>
          </a:xfrm>
          <a:prstGeom prst="rect">
            <a:avLst/>
          </a:prstGeom>
          <a:solidFill>
            <a:srgbClr val="dddddd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3962520"/>
            <a:ext cx="1218960" cy="2133360"/>
            <a:chOff x="7391520" y="3962520"/>
            <a:chExt cx="1218960" cy="2133360"/>
          </a:xfrm>
        </p:grpSpPr>
        <p:sp>
          <p:nvSpPr>
            <p:cNvPr id="165" name=""/>
            <p:cNvSpPr/>
            <p:nvPr/>
          </p:nvSpPr>
          <p:spPr>
            <a:xfrm>
              <a:off x="7391520" y="3962520"/>
              <a:ext cx="1218960" cy="2133360"/>
            </a:xfrm>
            <a:prstGeom prst="diamond">
              <a:avLst/>
            </a:prstGeom>
            <a:solidFill>
              <a:srgbClr val="ffcc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876560"/>
              <a:ext cx="53316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4547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68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981080" y="990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1066680"/>
            <a:ext cx="84582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Zad. Na trójkącie równobocznym 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okrąg o promieniu 2     . 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3e1eb4"/>
                </a:solidFill>
                <a:latin typeface="Times New Roman"/>
              </a:rPr>
              <a:t>trój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800600" y="17524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3048120" y="2895480"/>
            <a:ext cx="2971800" cy="29718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895480"/>
            <a:ext cx="2514600" cy="228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382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4419720"/>
            <a:ext cx="1295640" cy="7617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181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8769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88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82404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50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1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90720" y="990720"/>
            <a:ext cx="81532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Zad. Na sześciokącie foremnym jest opisany 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okrąg o promieniu 4cm.Oblicz pole tego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           </a:t>
            </a:r>
            <a:r>
              <a:rPr b="1" lang="en-US" sz="3000" spc="-1" strike="noStrike">
                <a:solidFill>
                  <a:srgbClr val="545472"/>
                </a:solidFill>
                <a:latin typeface="Times New Roman"/>
              </a:rPr>
              <a:t>sześciokąta.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8120" y="3200400"/>
            <a:ext cx="2743200" cy="28195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5562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8120" y="3429000"/>
            <a:ext cx="2743200" cy="2362320"/>
          </a:xfrm>
          <a:prstGeom prst="hexagon">
            <a:avLst>
              <a:gd name="adj" fmla="val 29031"/>
              <a:gd name="vf" fmla="val 115470"/>
            </a:avLst>
          </a:prstGeom>
          <a:noFill/>
          <a:ln w="38160">
            <a:solidFill>
              <a:srgbClr val="0b0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464832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0" y="4956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733920" y="4647960"/>
            <a:ext cx="685800" cy="1143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49528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563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4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107316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53053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03280" y="479736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38080" y="5638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16000" y="2133720"/>
            <a:ext cx="707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Dokończ zdania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i odpowiedz na pytania</a:t>
            </a:r>
            <a:r>
              <a:rPr b="0" lang="en-US" sz="4800" spc="-1" strike="noStrike">
                <a:solidFill>
                  <a:srgbClr val="de9fe1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371600" cy="8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4360" y="162612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1. Dokończ zdania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Wielokąt wpisany w okrąg to taki wielokąt ........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Wielokąt opisany na okręgu to taki wielokąt 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00000" y="345276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)...... którego wierzchołki leżą na tym okręgu </a:t>
            </a:r>
            <a:br>
              <a:rPr sz="2400"/>
            </a:b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)...... którego boki są styczne do okręgu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4360" y="1841040"/>
            <a:ext cx="81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2. Wskaż zdania prawdziwe;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. Na każdym trój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b. Na każdym czworokącie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. W każdy trój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. W każdy czworokąt można w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e. Na każdym wielokącie foremnym można opisać okrąg. 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. W każdy wielokąt foremny można wpisać okrąg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61440" y="249228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95960" y="2924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b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9440" y="3357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67240" y="37162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 N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89920" y="400536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e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53440" y="45086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f TA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1828800"/>
            <a:ext cx="1981440" cy="205740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91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ielokątem foremnym nazywamy wielokąt , który ma wszystkie boki jednakowej długości    i wszystkie kąty jednakowej miar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0920" y="6165720"/>
            <a:ext cx="1066680" cy="457200"/>
            <a:chOff x="250920" y="6165720"/>
            <a:chExt cx="1066680" cy="457200"/>
          </a:xfrm>
        </p:grpSpPr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784080" y="616572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250920" y="616572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9595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19280" y="836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Wielokąt foremny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9400" y="2209680"/>
            <a:ext cx="1828800" cy="152424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03848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11480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solidFill>
            <a:srgbClr val="cce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2096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6115200">
            <a:off x="1636920" y="2156400"/>
            <a:ext cx="1538280" cy="1517760"/>
          </a:xfrm>
          <a:prstGeom prst="pentagon">
            <a:avLst/>
          </a:prstGeom>
          <a:solidFill>
            <a:srgbClr val="c0c0c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114800"/>
            <a:ext cx="1981080" cy="1981080"/>
          </a:xfrm>
          <a:prstGeom prst="diamond">
            <a:avLst/>
          </a:prstGeom>
          <a:solidFill>
            <a:srgbClr val="9ac0e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94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609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8380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Wielokąty foremne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18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68360" y="1773000"/>
            <a:ext cx="3408120" cy="2448000"/>
            <a:chOff x="468360" y="1773000"/>
            <a:chExt cx="3408120" cy="2448000"/>
          </a:xfrm>
        </p:grpSpPr>
        <p:grpSp>
          <p:nvGrpSpPr>
            <p:cNvPr id="189" name=""/>
            <p:cNvGrpSpPr/>
            <p:nvPr/>
          </p:nvGrpSpPr>
          <p:grpSpPr>
            <a:xfrm>
              <a:off x="468360" y="2093760"/>
              <a:ext cx="2378160" cy="1583640"/>
              <a:chOff x="468360" y="2093760"/>
              <a:chExt cx="2378160" cy="1583640"/>
            </a:xfrm>
          </p:grpSpPr>
          <p:sp>
            <p:nvSpPr>
              <p:cNvPr id="190" name=""/>
              <p:cNvSpPr/>
              <p:nvPr/>
            </p:nvSpPr>
            <p:spPr>
              <a:xfrm>
                <a:off x="468360" y="2093760"/>
                <a:ext cx="212724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19320" y="3157200"/>
                <a:ext cx="72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382760" y="1773000"/>
              <a:ext cx="2493720" cy="2448000"/>
              <a:chOff x="1382760" y="1773000"/>
              <a:chExt cx="2493720" cy="2448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9680" y="3235320"/>
                <a:ext cx="1839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82760" y="1773360"/>
                <a:ext cx="2047680" cy="1994040"/>
              </a:xfrm>
              <a:prstGeom prst="flowChartProcess">
                <a:avLst/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382760" y="1773000"/>
                <a:ext cx="2047680" cy="1994040"/>
              </a:xfrm>
              <a:prstGeom prst="line">
                <a:avLst/>
              </a:prstGeom>
              <a:ln w="38160">
                <a:solidFill>
                  <a:srgbClr val="fd9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63520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09600" y="243864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66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09760" y="37004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1042920" y="4365720"/>
            <a:ext cx="4647960" cy="657720"/>
            <a:chOff x="1042920" y="4365720"/>
            <a:chExt cx="4647960" cy="657720"/>
          </a:xfrm>
        </p:grpSpPr>
        <p:sp>
          <p:nvSpPr>
            <p:cNvPr id="201" name=""/>
            <p:cNvSpPr/>
            <p:nvPr/>
          </p:nvSpPr>
          <p:spPr>
            <a:xfrm>
              <a:off x="1042920" y="444204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cc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d </a:t>
              </a:r>
              <a:r>
                <a:rPr b="0" lang="en-US" sz="3200" spc="-1" strike="noStrike">
                  <a:solidFill>
                    <a:srgbClr val="020202"/>
                  </a:solidFill>
                  <a:latin typeface="Times New Roman"/>
                </a:rPr>
                <a:t>= a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2185920" y="4365720"/>
                  <a:ext cx="6858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4356000" y="1989000"/>
            <a:ext cx="428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rzekątna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 - pole kwadrat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5840" y="83808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KWADR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6172200"/>
            <a:ext cx="1066680" cy="457200"/>
            <a:chOff x="228600" y="6172200"/>
            <a:chExt cx="1066680" cy="457200"/>
          </a:xfrm>
        </p:grpSpPr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761760" y="6172200"/>
              <a:ext cx="533520" cy="457200"/>
            </a:xfrm>
            <a:custGeom>
              <a:avLst/>
              <a:gdLst>
                <a:gd name="textAreaLeft" fmla="*/ 29520 w 533520"/>
                <a:gd name="textAreaRight" fmla="*/ 504000 w 5335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203" h="21600">
                  <a:moveTo>
                    <a:pt x="0" y="0"/>
                  </a:moveTo>
                  <a:lnTo>
                    <a:pt x="25203" y="0"/>
                  </a:lnTo>
                  <a:lnTo>
                    <a:pt x="25203" y="21600"/>
                  </a:lnTo>
                  <a:lnTo>
                    <a:pt x="0" y="21600"/>
                  </a:lnTo>
                  <a:close/>
                </a:path>
                <a:path fill="lightenLess" w="25203" h="21600">
                  <a:moveTo>
                    <a:pt x="0" y="0"/>
                  </a:moveTo>
                  <a:lnTo>
                    <a:pt x="25203" y="0"/>
                  </a:lnTo>
                  <a:lnTo>
                    <a:pt x="23803" y="1400"/>
                  </a:lnTo>
                  <a:lnTo>
                    <a:pt x="1400" y="1400"/>
                  </a:lnTo>
                  <a:close/>
                </a:path>
                <a:path fill="darken" w="25203" h="21600">
                  <a:moveTo>
                    <a:pt x="25203" y="0"/>
                  </a:moveTo>
                  <a:lnTo>
                    <a:pt x="25203" y="21600"/>
                  </a:lnTo>
                  <a:lnTo>
                    <a:pt x="23803" y="20200"/>
                  </a:lnTo>
                  <a:lnTo>
                    <a:pt x="23803" y="1400"/>
                  </a:lnTo>
                  <a:close/>
                </a:path>
                <a:path fill="darkenLess" w="25203" h="21600">
                  <a:moveTo>
                    <a:pt x="252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803" y="20200"/>
                  </a:lnTo>
                  <a:close/>
                </a:path>
                <a:path fill="lighten" w="252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203" h="21600">
                  <a:moveTo>
                    <a:pt x="5595" y="3794"/>
                  </a:moveTo>
                  <a:lnTo>
                    <a:pt x="19608" y="10800"/>
                  </a:lnTo>
                  <a:lnTo>
                    <a:pt x="5595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228600" y="6172200"/>
              <a:ext cx="533160" cy="457200"/>
            </a:xfrm>
            <a:custGeom>
              <a:avLst/>
              <a:gdLst>
                <a:gd name="textAreaLeft" fmla="*/ 29520 w 533160"/>
                <a:gd name="textAreaRight" fmla="*/ 503640 w 5331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5186" h="21600">
                  <a:moveTo>
                    <a:pt x="0" y="0"/>
                  </a:moveTo>
                  <a:lnTo>
                    <a:pt x="25186" y="0"/>
                  </a:lnTo>
                  <a:lnTo>
                    <a:pt x="25186" y="21600"/>
                  </a:lnTo>
                  <a:lnTo>
                    <a:pt x="0" y="21600"/>
                  </a:lnTo>
                  <a:close/>
                </a:path>
                <a:path fill="lightenLess" w="25186" h="21600">
                  <a:moveTo>
                    <a:pt x="0" y="0"/>
                  </a:moveTo>
                  <a:lnTo>
                    <a:pt x="25186" y="0"/>
                  </a:lnTo>
                  <a:lnTo>
                    <a:pt x="23786" y="1400"/>
                  </a:lnTo>
                  <a:lnTo>
                    <a:pt x="1400" y="1400"/>
                  </a:lnTo>
                  <a:close/>
                </a:path>
                <a:path fill="darken" w="25186" h="21600">
                  <a:moveTo>
                    <a:pt x="25186" y="0"/>
                  </a:moveTo>
                  <a:lnTo>
                    <a:pt x="25186" y="21600"/>
                  </a:lnTo>
                  <a:lnTo>
                    <a:pt x="23786" y="20200"/>
                  </a:lnTo>
                  <a:lnTo>
                    <a:pt x="23786" y="1400"/>
                  </a:lnTo>
                  <a:close/>
                </a:path>
                <a:path fill="darkenLess" w="25186" h="21600">
                  <a:moveTo>
                    <a:pt x="251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786" y="20200"/>
                  </a:lnTo>
                  <a:close/>
                </a:path>
                <a:path fill="lighten" w="251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186" h="21600">
                  <a:moveTo>
                    <a:pt x="5586" y="10800"/>
                  </a:moveTo>
                  <a:lnTo>
                    <a:pt x="19599" y="3794"/>
                  </a:lnTo>
                  <a:lnTo>
                    <a:pt x="19599" y="17806"/>
                  </a:lnTo>
                  <a:close/>
                </a:path>
              </a:pathLst>
            </a:custGeom>
            <a:solidFill>
              <a:srgbClr val="fd93d7"/>
            </a:solidFill>
            <a:ln w="9360">
              <a:solidFill>
                <a:srgbClr val="fd9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436280"/>
            <a:ext cx="13683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=a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810240" cy="27241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692360" y="2276640"/>
            <a:ext cx="2438280" cy="2364120"/>
            <a:chOff x="1692360" y="2276640"/>
            <a:chExt cx="2438280" cy="2364120"/>
          </a:xfrm>
        </p:grpSpPr>
        <p:grpSp>
          <p:nvGrpSpPr>
            <p:cNvPr id="212" name=""/>
            <p:cNvGrpSpPr/>
            <p:nvPr/>
          </p:nvGrpSpPr>
          <p:grpSpPr>
            <a:xfrm>
              <a:off x="1692360" y="2276640"/>
              <a:ext cx="2438280" cy="1904760"/>
              <a:chOff x="1692360" y="2276640"/>
              <a:chExt cx="2438280" cy="1904760"/>
            </a:xfrm>
          </p:grpSpPr>
          <p:sp>
            <p:nvSpPr>
              <p:cNvPr id="213" name=""/>
              <p:cNvSpPr/>
              <p:nvPr/>
            </p:nvSpPr>
            <p:spPr>
              <a:xfrm>
                <a:off x="1692360" y="2276640"/>
                <a:ext cx="2438280" cy="19047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11320" y="2276640"/>
                <a:ext cx="0" cy="1904760"/>
              </a:xfrm>
              <a:prstGeom prst="line">
                <a:avLst/>
              </a:prstGeom>
              <a:ln w="38160">
                <a:solidFill>
                  <a:srgbClr val="4382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920960" y="2885760"/>
              <a:ext cx="2133360" cy="1755000"/>
              <a:chOff x="1920960" y="2885760"/>
              <a:chExt cx="2133360" cy="1755000"/>
            </a:xfrm>
          </p:grpSpPr>
          <p:sp>
            <p:nvSpPr>
              <p:cNvPr id="216" name=""/>
              <p:cNvSpPr/>
              <p:nvPr/>
            </p:nvSpPr>
            <p:spPr>
              <a:xfrm>
                <a:off x="2682720" y="4181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382f3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21160" y="28857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45472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920960" y="2961720"/>
                <a:ext cx="1447560" cy="687960"/>
                <a:chOff x="1920960" y="2961720"/>
                <a:chExt cx="1447560" cy="687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911320" y="318996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382f3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20960" y="2961720"/>
                  <a:ext cx="99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395280" y="76500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0036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64000" y="29242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979640" y="2852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826080" cy="3529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http://www.zskorzenna.ayz.pl/grfi/lgm/lgmwm_07.gif"/>
          <p:cNvPicPr/>
          <p:nvPr/>
        </p:nvPicPr>
        <p:blipFill>
          <a:blip r:embed="rId3"/>
          <a:stretch/>
        </p:blipFill>
        <p:spPr>
          <a:xfrm>
            <a:off x="4211640" y="2852640"/>
            <a:ext cx="4734000" cy="2867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1125360"/>
            <a:ext cx="456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TRÓJKĄT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382f3"/>
                </a:solidFill>
                <a:latin typeface="Comic Sans MS"/>
              </a:rPr>
              <a:t>RÓWNOBOCZ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59360" y="838080"/>
            <a:ext cx="53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SZEŚCIOKĄT FOREMNY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753080" cy="3595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5157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20202"/>
                </a:solidFill>
                <a:latin typeface="Times New Roman"/>
              </a:rPr>
              <a:t>- bok sześcioką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4920" y="2708280"/>
            <a:ext cx="3527640" cy="155700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ześciokąt foremny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kłada się z sześci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trójkątów równobocznych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o boku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148360" y="4508640"/>
            <a:ext cx="2286000" cy="1218960"/>
            <a:chOff x="5148360" y="4508640"/>
            <a:chExt cx="2286000" cy="12189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6431040" y="4508640"/>
                  <a:ext cx="100332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5148360" y="4813200"/>
              <a:ext cx="14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= 6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195640" y="5300640"/>
                <a:ext cx="3110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16720" y="3860640"/>
                <a:ext cx="374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3640" y="400536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050920" y="4076640"/>
                <a:ext cx="24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4:12:19Z</dcterms:created>
  <dc:creator>Szuwarowski</dc:creator>
  <dc:description/>
  <dc:language>en-US</dc:language>
  <cp:lastModifiedBy>Matematyka</cp:lastModifiedBy>
  <dcterms:modified xsi:type="dcterms:W3CDTF">2014-03-01T17:34:10Z</dcterms:modified>
  <cp:revision>116</cp:revision>
  <dc:subject/>
  <dc:title>Temat: Okrąg wpisany i opisany           na wielokącie foremnym             - zadania.</dc:title>
</cp:coreProperties>
</file>